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gif" ContentType="image/gif"/>
  <Override PartName="/ppt/media/image14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089-E422-4B46-91F9-7A2E545D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65E-B8E8-4CDB-901C-27287CA4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CBD-3A61-4215-9703-16BB0BC4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D14-1178-4125-82B9-6B0B99EC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EA4-0A39-4EE3-A355-93936E69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E46-7135-4800-B1CB-239F1F9B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999-0BBE-4368-A002-EDC7DA3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F73-90AC-4DC9-B630-5AC4FF8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B43-9C4B-4DDC-A6CC-2010EC53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3E3-B52D-4C4E-A1FB-69D2E1F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B31-523B-457D-BCBA-5ECC8E0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E53-0A71-4637-A2A4-37BEEF4F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358E-E75C-4D70-8197-714AB0CF6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ELL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ructure &amp; Func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 organelle that assists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133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ilia OR flagella OR CYTOSKELE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2560" y="3657600"/>
            <a:ext cx="779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organelle which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power plant” of the 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cause it provides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storage space that is larger in plants than anim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7240" y="182880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1200" y="3635280"/>
            <a:ext cx="74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molecule that provi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nergy for cell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105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s that have a 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NOT a nuclear membrane a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7080" y="160020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kary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6068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organelle that acts as the cell’s control cen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45720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membranes are made of these 2 main kinds of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71000" y="1981080"/>
            <a:ext cx="56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ospholipids &amp;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6720" y="3581280"/>
            <a:ext cx="83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other kind of molecule that 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so be found in an animal 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105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eroids (lipids)  OR glyco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dark spot in the nucleus of a cell where ribosomes are m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9720" y="19051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ucleo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9040" y="3683160"/>
            <a:ext cx="80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mbranes that allow certain molecu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pass through and not others are s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___________________ perm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800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electively OR sem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grammed cell death or “cell suicide” for the good of the org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720" y="213372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320" y="3683160"/>
            <a:ext cx="75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eins are made on the __________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c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657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 lipid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membranes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es energy as  ATP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ead out DNA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ifies &amp; transports prote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on its ribosomes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tes calcium leve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uscle cells     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and protec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t cells   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720" y="121932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5040" y="177804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30800" y="23623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at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7640" y="358128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g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840" y="457200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563868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at kind of cell would you expect to see chromat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iding             non-div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7080" y="190512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n-divi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26708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ylakoid stacks would be seen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ochondria        Golgi bodies      chloroplas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tochondria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bosomes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wall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lgi bodies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ioles     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ooth ER   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0600" y="762120"/>
            <a:ext cx="51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urn glucose; make 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7280" y="129528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5160" y="190512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ort;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8200" y="2514600"/>
            <a:ext cx="61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ckage molecules for stor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r ex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1320" y="3657600"/>
            <a:ext cx="63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ull chromosomes apart during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487692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ke steroids in gland cells; regulate calcium in muscle cells; Break down toxins in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 organelles that b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ucose and store energy as AT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8520" y="198108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440" y="3635280"/>
            <a:ext cx="357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structu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4191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agell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flagella1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352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function of the cell membra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3440" y="1676520"/>
            <a:ext cx="778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rols what enters or leaves cell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3276720"/>
            <a:ext cx="8113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DNA is spread out in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cleus of a cell of non-dividing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is called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4495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at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 organelle that is made of microtub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680" y="1981080"/>
            <a:ext cx="612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toskeleton, cilia, flagell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R  centri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240" y="3683160"/>
            <a:ext cx="829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embrane protein with carbohyd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tached to its surface that function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identification is called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 ATP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s what ent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leaves the nucleus 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cell move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ify, sort, &amp; pack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tances for transport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 ribosomes 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center of cell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63040" y="126360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0840" y="223524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ar enve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8560" y="297180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ilia or flag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5040" y="403848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lgi bo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920" y="46483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9400" y="525780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n organelle besides the nucleus that has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360" y="198108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 OR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9760" y="3635280"/>
            <a:ext cx="624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difference betwe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lia and flagel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5029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ilia- many, shorter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agella-one or two, lo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p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8160" y="0"/>
            <a:ext cx="468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users.rcn.com/jkimball.ma.ultranet/BiologyPages/A/AnimalCells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6799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rding to the Endosymbiotic theory, which  organelle probably evolved from photosynthesizing bacteria that were incorporated into early prokaryotic cel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52960" cy="343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39880" y="1527120"/>
            <a:ext cx="31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LGI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n organelle besides the nucleus that has a double membr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1680" y="190512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 OR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7432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2 kinds of evidence that support the Endosymbiotic the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809880"/>
            <a:ext cx="891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tochondria and chloropla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circular DNA like bacteria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divide using binary fission like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molecules in their inner membranes like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ribosomes like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 genetic info 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cell shape/support 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w, long structur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locomotion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more surfa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 inside mitochondria 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 for photosynthesis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 storage space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7120" y="1371600"/>
            <a:ext cx="17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5040" y="18543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3640" y="29718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ag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6120" y="40384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rist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9600" y="459756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880" y="52070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acu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p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8160" y="0"/>
            <a:ext cx="468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users.rcn.com/jkimball.ma.ultranet/BiologyPages/A/AnimalCells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6799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rding to the Endosymbiotic theory, which  organelle probably evolved from aerobic bacteria that were incorporated into early prokaryotic cel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267080" cy="3528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1440" y="145080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oplasmic reticulum with ribosomes attached is call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 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3400" y="160020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9400" y="3635280"/>
            <a:ext cx="60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rane bound sac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ins digestive enzy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yso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organel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s AT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720" y="2057400"/>
            <a:ext cx="33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9760" y="3635280"/>
            <a:ext cx="767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cause the phospholipids in a cel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rane form 2 layers it i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led a 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952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mito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44226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 ER does NOT hav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bosomes att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7280" y="53352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m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3320" y="3581280"/>
            <a:ext cx="832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_______ is made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crofilaments and microtubules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lps the cell to maintain its sha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3657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teria are 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karyotes        eukary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7480" y="60948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960" y="3635280"/>
            <a:ext cx="41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storage sp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343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acu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lant vacuole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294336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800" y="6172200"/>
            <a:ext cx="28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Times New Roman"/>
              </a:rPr>
              <a:t>http://library.thinkquest.org/3564/Cells/cell93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342864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ellow part of this phospholipid molecule stays on the outside of the bilayer next to the water environment because it is 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ar          nonp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4876920"/>
            <a:ext cx="13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bilayer" descr=""/>
          <p:cNvPicPr/>
          <p:nvPr/>
        </p:nvPicPr>
        <p:blipFill>
          <a:blip r:embed="rId1"/>
          <a:stretch/>
        </p:blipFill>
        <p:spPr>
          <a:xfrm>
            <a:off x="25146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job of the ribosom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3960" y="1454040"/>
            <a:ext cx="33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ke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120" y="3581280"/>
            <a:ext cx="882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ncake-like stack of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modify, sort, &amp;package subst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ranspo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5562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lgi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s down toxins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wer plant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runched up DNA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s molecules in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 of nucleus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cs inside chloroplasts     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and protec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terial cells   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840" y="68580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6240" y="12952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2920" y="1905120"/>
            <a:ext cx="28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6080" y="289548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ar p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1160" y="358128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ylak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572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7391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 cell part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s this 9 +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rangemen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tub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5360" y="320040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ilia OR flag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3240" y="4572000"/>
            <a:ext cx="703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elle in a plant or animal cell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 the cell’s genetic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5791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9 plus 2" descr=""/>
          <p:cNvPicPr/>
          <p:nvPr/>
        </p:nvPicPr>
        <p:blipFill>
          <a:blip r:embed="rId1"/>
          <a:stretch/>
        </p:blipFill>
        <p:spPr>
          <a:xfrm>
            <a:off x="5086440" y="457200"/>
            <a:ext cx="405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olded inner membrane i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itochondria which help to increase the surface area for chemical reactions is called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25909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rista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00" y="3635280"/>
            <a:ext cx="60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bosomes are made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  &amp;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4191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                  R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4724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of these proteins is a peripheral prote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334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; sticks </a:t>
            </a: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on the surface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of the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583320" cy="4354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124080" y="0"/>
            <a:ext cx="31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tqnyc.org/NYC040844/animalcell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function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ugh 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2600" y="2133720"/>
            <a:ext cx="844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dify and transport molecules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y its rib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3320" y="4343400"/>
            <a:ext cx="43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organell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5029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lgi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286000" cy="1760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486760" y="6400800"/>
            <a:ext cx="350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vilenski.org/science/safari/cellstructure/golgi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gh ER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cleus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toskeleton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membrane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oplast        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cuole    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cleolus  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3760" y="68580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dify/transport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7800" y="1295280"/>
            <a:ext cx="58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ain DNA; control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7600" y="1905120"/>
            <a:ext cx="39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ort; give sh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1520" y="2514600"/>
            <a:ext cx="61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rol what enters/leaves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840" y="312408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3657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res water, food, molecules,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19320" y="4159080"/>
            <a:ext cx="51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RNA for 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lant cell is a 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karyote        eukaryo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1160" y="53352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ukary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7800" y="2971800"/>
            <a:ext cx="825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organelle contains the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47242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lorop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sacs found inside chloroplasts that contain the molecules for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3600" y="243828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ylako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360" y="3635280"/>
            <a:ext cx="77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folded membrane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ide mitochond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51055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rist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the 3 of the parts of the cell the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8800" y="1346040"/>
            <a:ext cx="711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All living things are made of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Cells are the basic units of structure &amp;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function in an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 Cells are produced from existing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1040" y="3657600"/>
            <a:ext cx="847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ll structure in a cell that per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specific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rgan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4724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of these proteins is an integral prote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; sticks </a:t>
            </a: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 the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583320" cy="4354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181480" y="0"/>
            <a:ext cx="31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tqnyc.org/NYC040844/animalcell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y short structures on the top of thi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are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6200" y="1447920"/>
            <a:ext cx="10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1200" y="3635280"/>
            <a:ext cx="800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s that have a nuclear membra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called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4343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ukary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cilia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ganelle that regulates calcium in muscle cells, makes lipids for membranes, and breaks down toxins in liver cells is the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6120" y="1752480"/>
            <a:ext cx="26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200" y="3635280"/>
            <a:ext cx="810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ytoskeleton is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  &amp;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4267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crofilaments            microtub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80880" y="3657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lue part of this phospholipid molecule stays inside the membrane away from water because it is 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ar          nonp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21120" y="5029200"/>
            <a:ext cx="23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 po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bilaye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cell diagram unlabeled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724640" cy="3854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80880" y="41911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= 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= 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=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30240" y="60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4191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2160" y="1371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960" y="21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2116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028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8520" y="464832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3400" y="51814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720" y="56386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olgi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7760" y="609588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tochond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at this 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6560" y="1905120"/>
            <a:ext cx="44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lf”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2971800"/>
            <a:ext cx="312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at this molecule d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50292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ore and transfer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635120" cy="2674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55548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218240" y="0"/>
            <a:ext cx="774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faculty.clintoncc.suny.edu/faculty/Michael.Gregory/files/Bio%20101/Bio%20101%20Lectures/Membranes/membrane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in order of increasing siz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      cell      organ system      organism   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0" y="335268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3352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9600" y="3276720"/>
            <a:ext cx="145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r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21840" y="4724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rgan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6800" y="48006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rg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 cell part tha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uld use th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2960" y="2133720"/>
            <a:ext cx="74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t is an amino acid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ibosomes use it to make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41911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ell part that makes thi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3954600" cy="1952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629400" y="380880"/>
            <a:ext cx="18748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the following cells in order of decreasing siz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erium             Plant cell              Animal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                            smaller                        smal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920" y="38862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4038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0680" y="4038480"/>
            <a:ext cx="24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cte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7467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 don’t have a CELL membra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1337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LSE; All cells have a cell membrane on the out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80" y="3809880"/>
            <a:ext cx="89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one of the functions of Smooth 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44956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lipids for membranes,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gulate calcium level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reak down toxic subst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ell PEO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rman zoologist wh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ded  all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ade of cells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scientist who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w “little boxes” in c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called them cells  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480" y="1981080"/>
            <a:ext cx="38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odor Schwa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6080" y="457200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bert Hoo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791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n organelle besides the cell nucleus that has its OWN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70280" y="213372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 OR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20" y="3505320"/>
            <a:ext cx="86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group of cells that work togeth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ry out a specific function are cal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4724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molecule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6920" y="190512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ospholip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3505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cell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4267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ntri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0" t="12769" r="0" b="10637"/>
          <a:stretch/>
        </p:blipFill>
        <p:spPr>
          <a:xfrm>
            <a:off x="5638680" y="1219320"/>
            <a:ext cx="2857680" cy="1371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28640" t="0" r="23633" b="0"/>
          <a:stretch/>
        </p:blipFill>
        <p:spPr>
          <a:xfrm>
            <a:off x="5486400" y="3962520"/>
            <a:ext cx="2286000" cy="2536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638680" y="913680"/>
            <a:ext cx="317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biology.clc.uc.edu/courses/bio104/cell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000" y="6476400"/>
            <a:ext cx="27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beyondbooks.com/lif71/4a.asp</a:t>
            </a:r>
            <a:r>
              <a:rPr b="1" lang="en-US" sz="10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molecule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5480" y="1905120"/>
            <a:ext cx="289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lyco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50532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4724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635120" cy="26748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5554800" cy="2743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218240" y="-720"/>
            <a:ext cx="774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faculty.clintoncc.suny.edu/faculty/Michael.Gregory/files/Bio%20101/Bio%20101%20Lectures/Membranes/membrane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0" y="640080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 don’t have riboso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2320" y="1752480"/>
            <a:ext cx="76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lse; Yes, they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bosomes aren’t made of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040" y="3635280"/>
            <a:ext cx="703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 cells don’t have centri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5638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ue; at least we can’t see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 organelle besides the cell nucleus that is surrounded by a DOUBLE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70280" y="2133720"/>
            <a:ext cx="68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 OR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3320" y="3429000"/>
            <a:ext cx="885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group of organs that work togeth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ry out a specific function are cal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4724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rga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process by which your fi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oes formed from paddle-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uctures and your tail disappear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18288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pop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30956" t="0" r="0" b="0"/>
          <a:stretch/>
        </p:blipFill>
        <p:spPr>
          <a:xfrm>
            <a:off x="533520" y="2590920"/>
            <a:ext cx="4419360" cy="3349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218960" y="6019200"/>
            <a:ext cx="32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mgm.ufl.edu/images/bharfe/image3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Five Week Human Embryo"/>
          <p:cNvPicPr/>
          <p:nvPr/>
        </p:nvPicPr>
        <p:blipFill>
          <a:blip r:embed="rId2"/>
          <a:stretch/>
        </p:blipFill>
        <p:spPr>
          <a:xfrm>
            <a:off x="5486400" y="2438280"/>
            <a:ext cx="3362400" cy="3581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019920" y="6248520"/>
            <a:ext cx="28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nurseminerva.co.uk/tail_bud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ntrioles are only seen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3760" y="91440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ing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9600" y="3124080"/>
            <a:ext cx="833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would expect to see cristae in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809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s that need a lot of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ably have a lot of 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lgi bodies      Smooth ER    mitochondria    centri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5400" y="121932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1200" y="3635280"/>
            <a:ext cx="7035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oplasmic reticulum 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bosomes attached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4952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moot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embrane t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s certa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s pa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ough and no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s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120" y="4419720"/>
            <a:ext cx="555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mi permeable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lectively perme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581280" y="152280"/>
            <a:ext cx="5181840" cy="3891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743200" y="6400800"/>
            <a:ext cx="607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d.umn.edu/~sdowning/Membranes/membraneImages/jpegimages/diffusionmedium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___ is the basic unit of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685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0120" y="3635280"/>
            <a:ext cx="595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ribosomes m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which part does it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rns glucose  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s what ent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leaves the cell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lls chromosom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ing cell division 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ests unwa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tances or cell parts 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s proteins 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 chromatin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3040" y="126360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9600" y="228600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2760" y="335268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ntri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0" y="441972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360" y="5105520"/>
            <a:ext cx="20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00040" y="565776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plant cells and animal cells are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6765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: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are eukaryotes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nuclear membran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membrane bound organelles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cell membran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DNA in multiple chrom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plant cells and bacterial cells are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6765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: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cell wall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a cytoskele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animal cells and bacterial cells are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6765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oth: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have a 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a cytoskele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plant cells are different from animal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25909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cell wall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 cell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chloroplasts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 chloropl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 centrioles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centri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ig vacuo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small vacu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plant cells are different from bacteria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43828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ukaryot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chloroplast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chloropl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ellulos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ptidogly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cell wal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ig vacuol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vacuole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mbrane bound organell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membran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way animal cells are different from bacteria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243828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ukaryot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cell wal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acuol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vacuole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mbrane bound organell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membran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entriol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 centri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ell PEO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n biologist w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d eviden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ndosymbiotic theory 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rman physician who sa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viding cells and reaso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cells come from existing cells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9240" y="2133720"/>
            <a:ext cx="31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ynn Margu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8520" y="4952880"/>
            <a:ext cx="36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udolph Virc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5791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Cell PEO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tch microscope maker who w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irst to observe LIVING cells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anist who concluded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PLANTS are made of cells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640" y="205740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ton van Leeuwenho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8480" y="4343400"/>
            <a:ext cx="39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tthias Schlei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791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nimal cell is a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karyote          eukaryo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9240" y="53352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ukary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440" y="3635280"/>
            <a:ext cx="403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organelle 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gh 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rer1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273204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66560" y="6324480"/>
            <a:ext cx="29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biology4kids.com/files/cell_er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Becca Riedell</cp:lastModifiedBy>
  <dcterms:modified xsi:type="dcterms:W3CDTF">2007-10-01T23:06:48Z</dcterms:modified>
  <cp:revision>69</cp:revision>
  <dc:subject/>
  <dc:title>asdfs</dc:title>
</cp:coreProperties>
</file>